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A1A653A-E151-4928-895B-385036C7C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A6B55F2-63EC-4999-B740-45D1C57B3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D1F418A-2D8D-45B3-8F20-8709C7442E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547BAAF-9B27-4A3C-85F8-AC6FE6459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99B5D5E-78B5-478B-A31E-1F13D3D5EB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49D35D1-AEBA-4B02-9D9C-337B9F5FF3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49BC49C-7B10-4D40-A41C-132AE41338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FB43AF1-F37A-439A-B3B3-26A730348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269F9F8-E54D-4EBF-99A7-FCD256A0B4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29C2A1D-2993-4732-89A8-F728ED3C5D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90B2EF3-ED74-4C41-B9A8-9378EA96A2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841C09-ABE4-4ED0-B415-087F58CB82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C4197F6-B4F6-46A9-BF57-32E717BF36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3026E0-082A-4A41-8038-484C9D39CB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4871F-9840-44AB-9097-E3676ACE2F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F3C2F2-9B19-48E8-9E8D-7D2F40E6D1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D4DA9C-1953-4C58-886B-E719167DD0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7A9BC6-E63B-4350-B330-CCCFFAB4BD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F4A80B-5F83-4CDE-8AE3-3431E602D1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78E71-04A6-46EA-8B98-001E79BD79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DCBEC7-B968-41FD-83A2-43F392E0FB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308B42-1A93-4FDD-9308-A4D9D66EE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5C21AC-1BF9-4B96-A9AA-4AC6D3AA07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7471D21-3DF7-4E3D-9A8B-71D9CAF3D6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6F93EE-3F17-4499-8749-049C86B146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092FC5-07A5-4D8B-9299-78F34201C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56E53C-A761-4461-959B-3FFBC1008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5FCF44-1111-4EC1-9043-DD509A6CA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8E2F1C-F9B3-4F7F-81BA-ABF6EDFB2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EAFA85-4777-4C53-B3D2-636EA6D55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6D11C0-C236-4434-971B-2609362AF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B906E6-E526-483F-BF36-74185546E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EB222E3-F080-47C7-AAA9-283798AAB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F30EF7-1493-45BC-9D2C-46FB1A80D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A1B2DF-81C3-4B82-9031-31F480BA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E554D7-96E1-48C8-B22D-8C7914BCC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98998A-5BCA-44D4-A821-2024D6F53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DBC6FB-8AF2-4EA0-8BFA-7265C6212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341CBF-5EBC-4D2C-9403-19A0B0DEC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3CBAF-607E-4BE3-8918-E5627B4CC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C8BC7-F3E8-45E0-93AB-EF0279C55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651F6-101C-4AB8-B1AB-A918A20B4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486AA-276D-4C8B-B1E0-B43EE482F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967D4A1-A815-46C4-9604-15D96E286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76F3F-3027-4B1D-8C4C-56E36B85F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1769E-2840-453B-980A-3D534ED70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EA9A5-2D66-4C7A-A283-6C8970543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47637-63D1-45BC-AB5E-9BA8B5494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CA8CC-3182-4DE7-84B4-298E61EF4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2BF63-CFDB-46C4-B6C9-0337D4F06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D5DD8-DE0B-4AD0-861A-F7469D209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8DE3D58-EC21-49B7-8B21-636F7A3BA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9E76C0-8B66-4932-94DD-FED229DCB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5CFAE1-09DA-4CB0-A3A5-1E6FF1A87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F9D940F-1F35-4DE6-A751-6B3A97C0C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CB4846-9717-4EB9-89C3-2AF294449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1D0ACC-5568-418E-8BCC-73CFE0678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C1C931-F812-4ACC-AAD0-C96F8D048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79B2A4-A590-4B61-85A2-7D52106DC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E5CC67-1A8D-4EE9-B206-0DD2EBAB0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E6E5F1-64B9-4665-B027-93BD8465C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42EA13-628C-49A8-8FFD-84B1C527D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9FDE930-ED33-4DE5-90FC-C40422E6AF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59B5D7A-8BDE-4E98-AED4-A55B078A8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55297-67B4-4B4C-9DD7-4F23F9133D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F06880D-2DA4-44CE-B0A0-767DABAB4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A2B0F-204B-47FA-872A-E51D77DDA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AD26C-E68F-4B5E-8FE7-2120E0E63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7EE60-9FD4-467A-AAEB-F6C0B86AF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C88DD-D3A8-476B-B086-72B96A23E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AB7FA-8B41-4C54-BBE0-30821FC5B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48A2B-90BF-4AEA-96EF-129D763DA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662F2-E85D-48CE-92B3-0EC7F6261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B9AFF-9E06-42DF-8A0A-EFC4F788A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BFB52-BCE2-4261-B62F-4A102320A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C138F-B753-476A-806D-5C6FEE1B1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311F4FB-420A-4C8D-91DB-2F1E20154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05124-A614-41A2-BB3A-2D19D5397E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45C329-E629-4D58-9571-30471293EF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70D2C-94C5-49BD-A35B-305954018F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4D669-37FD-405F-8A9F-A634FB23D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381DD-5EB1-40A9-AE2D-AF1457BF3F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EC102A-7E7C-484D-A160-2B861A943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BA58B-E82E-48C5-91D9-0303DD252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67F8E-15D3-4351-BE54-2388FDD7A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6E069-3998-4444-9A43-9BE4FD3BD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F693A-61BC-47F7-A74D-B4A48A328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C2719E7-463E-41A4-8ACF-0CF40FC18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6D000-B240-41CD-A031-641096E8E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5A7CEA-24DA-495A-A807-A1B40703EC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57380-E878-4297-8E16-4D95338D50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6A9468-C3F8-4368-A4D0-95929B0956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2763F-1750-4BC6-94D5-B958A240F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2458F-A861-4DDC-AC4E-012C7BA41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235D7-3526-45BB-B8FD-60F73412D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62B8F-EC39-4886-8B47-F2D385FDC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1ABF8-FB76-4655-8D60-7B761C243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C410A-65CD-4919-A59C-84BA08453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F559DD9-015C-4A1F-B262-6498E869D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D0D45-B369-4ACC-8636-0BA62F7B8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19D5D-E57E-4756-B2F6-7C0A21453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AC874-A6AB-47BF-949F-5AF86B042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443D2-5E8F-4DC8-938E-2EE4FB8E3C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EBA4AC-F884-425E-B3B9-44DA2E42CB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AFCBE5D-04F1-4152-BA7F-4B13ABD7B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B05F2CA-D065-418A-9E09-C7169A5E6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B77C3E0-8DFF-4AAB-9FA8-690DEA5781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55691C0-A026-4EE2-9B13-AAFA3A50E8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DEEACDC-7D96-4AFD-B7A9-98FBB9B8A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4C997A8-5B94-4E43-ACB2-A13551FB8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316449B-7EB1-476D-9707-F31F73AE02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3DE7AE-58C6-4FB5-BDCE-2CA6B7FE4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1C24936-CAE5-4CB1-BE71-362405DB89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A624CE6-DA36-4C26-B680-2117810F6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38624FA-C251-468F-B028-897EC3266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09672D5-CF75-4320-8BEF-8D8B02492F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A5E7413-050A-46C9-A769-EF36DA6CCF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E5A0CD2-44FA-408F-B4E4-7A810277CA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9F7F464-9093-43A5-96FA-A67E9E9D2F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AFBC800-3982-4634-AF10-130CADD2A4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2"/>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3583-48D1-4C4B-B135-056A7D954471}"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6" name="Round Diagonal Corner Rectangle 6"/>
          <p:cNvGrpSpPr/>
          <p:nvPr/>
        </p:nvGrpSpPr>
        <p:grpSpPr>
          <a:xfrm>
            <a:off x="152280" y="133200"/>
            <a:ext cx="8832960" cy="6591600"/>
            <a:chOff x="152280" y="133200"/>
            <a:chExt cx="8832960" cy="6591600"/>
          </a:xfrm>
        </p:grpSpPr>
        <p:pic>
          <p:nvPicPr>
            <p:cNvPr id="407" name="Round Diagonal Corner Rectangle 6" descr=""/>
            <p:cNvPicPr/>
            <p:nvPr/>
          </p:nvPicPr>
          <p:blipFill>
            <a:blip r:embed="rId2"/>
            <a:stretch/>
          </p:blipFill>
          <p:spPr>
            <a:xfrm>
              <a:off x="152280" y="133200"/>
              <a:ext cx="8832960" cy="6591600"/>
            </a:xfrm>
            <a:prstGeom prst="rect">
              <a:avLst/>
            </a:prstGeom>
            <a:ln w="0">
              <a:noFill/>
            </a:ln>
          </p:spPr>
        </p:pic>
        <p:sp>
          <p:nvSpPr>
            <p:cNvPr id="40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1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11" name="PlaceHolder 3"/>
          <p:cNvSpPr>
            <a:spLocks noGrp="1"/>
          </p:cNvSpPr>
          <p:nvPr>
            <p:ph type="dt" idx="28"/>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12" name="PlaceHolder 4"/>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13" name="PlaceHolder 5"/>
          <p:cNvSpPr>
            <a:spLocks noGrp="1"/>
          </p:cNvSpPr>
          <p:nvPr>
            <p:ph type="sldNum" idx="30"/>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E4EF-6079-4879-9B4C-CD6464608A78}"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 name="Round Diagonal Corner Rectangle 6"/>
          <p:cNvGrpSpPr/>
          <p:nvPr/>
        </p:nvGrpSpPr>
        <p:grpSpPr>
          <a:xfrm>
            <a:off x="152280" y="133200"/>
            <a:ext cx="8832960" cy="6591600"/>
            <a:chOff x="152280" y="133200"/>
            <a:chExt cx="8832960" cy="6591600"/>
          </a:xfrm>
        </p:grpSpPr>
        <p:pic>
          <p:nvPicPr>
            <p:cNvPr id="45" name="Round Diagonal Corner Rectangle 6" descr=""/>
            <p:cNvPicPr/>
            <p:nvPr/>
          </p:nvPicPr>
          <p:blipFill>
            <a:blip r:embed="rId2"/>
            <a:stretch/>
          </p:blipFill>
          <p:spPr>
            <a:xfrm>
              <a:off x="152280" y="133200"/>
              <a:ext cx="8832960" cy="6591600"/>
            </a:xfrm>
            <a:prstGeom prst="rect">
              <a:avLst/>
            </a:prstGeom>
            <a:ln w="0">
              <a:noFill/>
            </a:ln>
          </p:spPr>
        </p:pic>
        <p:sp>
          <p:nvSpPr>
            <p:cNvPr id="46"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grpSp>
        <p:nvGrpSpPr>
          <p:cNvPr id="47" name="Round Diagonal Corner Rectangle 7"/>
          <p:cNvGrpSpPr/>
          <p:nvPr/>
        </p:nvGrpSpPr>
        <p:grpSpPr>
          <a:xfrm>
            <a:off x="152280" y="133200"/>
            <a:ext cx="8839440" cy="2530800"/>
            <a:chOff x="152280" y="133200"/>
            <a:chExt cx="8839440" cy="2530800"/>
          </a:xfrm>
        </p:grpSpPr>
        <p:pic>
          <p:nvPicPr>
            <p:cNvPr id="48" name="Round Diagonal Corner Rectangle 7" descr=""/>
            <p:cNvPicPr/>
            <p:nvPr/>
          </p:nvPicPr>
          <p:blipFill>
            <a:blip r:embed="rId3"/>
            <a:stretch/>
          </p:blipFill>
          <p:spPr>
            <a:xfrm>
              <a:off x="152280" y="133200"/>
              <a:ext cx="8839440" cy="2530800"/>
            </a:xfrm>
            <a:prstGeom prst="rect">
              <a:avLst/>
            </a:prstGeom>
            <a:ln w="0">
              <a:noFill/>
            </a:ln>
          </p:spPr>
        </p:pic>
        <p:sp>
          <p:nvSpPr>
            <p:cNvPr id="49"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2"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53"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692A-C3B8-4A7A-B6CD-76E32016E41D}"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54"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2"/>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4"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7"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98"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9"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3878-D15F-4A68-8F60-4B7473716B3B}"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 name="Round Diagonal Corner Rectangle 6"/>
          <p:cNvGrpSpPr/>
          <p:nvPr/>
        </p:nvGrpSpPr>
        <p:grpSpPr>
          <a:xfrm>
            <a:off x="152280" y="133200"/>
            <a:ext cx="8832960" cy="6591600"/>
            <a:chOff x="152280" y="133200"/>
            <a:chExt cx="8832960" cy="6591600"/>
          </a:xfrm>
        </p:grpSpPr>
        <p:pic>
          <p:nvPicPr>
            <p:cNvPr id="137" name="Round Diagonal Corner Rectangle 6" descr=""/>
            <p:cNvPicPr/>
            <p:nvPr/>
          </p:nvPicPr>
          <p:blipFill>
            <a:blip r:embed="rId2"/>
            <a:stretch/>
          </p:blipFill>
          <p:spPr>
            <a:xfrm>
              <a:off x="152280" y="133200"/>
              <a:ext cx="8832960" cy="6591600"/>
            </a:xfrm>
            <a:prstGeom prst="rect">
              <a:avLst/>
            </a:prstGeom>
            <a:ln w="0">
              <a:noFill/>
            </a:ln>
          </p:spPr>
        </p:pic>
        <p:sp>
          <p:nvSpPr>
            <p:cNvPr id="13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39"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2"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143"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21BB-D2AF-4F4B-A598-4B2F8F7CE453}"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144"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1" name="Round Diagonal Corner Rectangle 6"/>
          <p:cNvGrpSpPr/>
          <p:nvPr/>
        </p:nvGrpSpPr>
        <p:grpSpPr>
          <a:xfrm>
            <a:off x="152280" y="133200"/>
            <a:ext cx="8832960" cy="6591600"/>
            <a:chOff x="152280" y="133200"/>
            <a:chExt cx="8832960" cy="6591600"/>
          </a:xfrm>
        </p:grpSpPr>
        <p:pic>
          <p:nvPicPr>
            <p:cNvPr id="182" name="Round Diagonal Corner Rectangle 6" descr=""/>
            <p:cNvPicPr/>
            <p:nvPr/>
          </p:nvPicPr>
          <p:blipFill>
            <a:blip r:embed="rId2"/>
            <a:stretch/>
          </p:blipFill>
          <p:spPr>
            <a:xfrm>
              <a:off x="152280" y="133200"/>
              <a:ext cx="8832960" cy="6591600"/>
            </a:xfrm>
            <a:prstGeom prst="rect">
              <a:avLst/>
            </a:prstGeom>
            <a:ln w="0">
              <a:noFill/>
            </a:ln>
          </p:spPr>
        </p:pic>
        <p:sp>
          <p:nvSpPr>
            <p:cNvPr id="18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84"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7"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188"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9"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DAF-DDEB-438F-BA1D-D4FACBB91595}"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6" name="Round Diagonal Corner Rectangle 6"/>
          <p:cNvGrpSpPr/>
          <p:nvPr/>
        </p:nvGrpSpPr>
        <p:grpSpPr>
          <a:xfrm>
            <a:off x="152280" y="133200"/>
            <a:ext cx="8832960" cy="6591600"/>
            <a:chOff x="152280" y="133200"/>
            <a:chExt cx="8832960" cy="6591600"/>
          </a:xfrm>
        </p:grpSpPr>
        <p:pic>
          <p:nvPicPr>
            <p:cNvPr id="227" name="Round Diagonal Corner Rectangle 6" descr=""/>
            <p:cNvPicPr/>
            <p:nvPr/>
          </p:nvPicPr>
          <p:blipFill>
            <a:blip r:embed="rId2"/>
            <a:stretch/>
          </p:blipFill>
          <p:spPr>
            <a:xfrm>
              <a:off x="152280" y="133200"/>
              <a:ext cx="8832960" cy="6591600"/>
            </a:xfrm>
            <a:prstGeom prst="rect">
              <a:avLst/>
            </a:prstGeom>
            <a:ln w="0">
              <a:noFill/>
            </a:ln>
          </p:spPr>
        </p:pic>
        <p:sp>
          <p:nvSpPr>
            <p:cNvPr id="22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9"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0"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3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33"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234"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5"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9C19-561A-4B94-A56C-31F972EAF195}"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2" name="Round Diagonal Corner Rectangle 6"/>
          <p:cNvGrpSpPr/>
          <p:nvPr/>
        </p:nvGrpSpPr>
        <p:grpSpPr>
          <a:xfrm>
            <a:off x="152280" y="133200"/>
            <a:ext cx="8832960" cy="6591600"/>
            <a:chOff x="152280" y="133200"/>
            <a:chExt cx="8832960" cy="6591600"/>
          </a:xfrm>
        </p:grpSpPr>
        <p:pic>
          <p:nvPicPr>
            <p:cNvPr id="273" name="Round Diagonal Corner Rectangle 6" descr=""/>
            <p:cNvPicPr/>
            <p:nvPr/>
          </p:nvPicPr>
          <p:blipFill>
            <a:blip r:embed="rId2"/>
            <a:stretch/>
          </p:blipFill>
          <p:spPr>
            <a:xfrm>
              <a:off x="152280" y="133200"/>
              <a:ext cx="8832960" cy="6591600"/>
            </a:xfrm>
            <a:prstGeom prst="rect">
              <a:avLst/>
            </a:prstGeom>
            <a:ln w="0">
              <a:noFill/>
            </a:ln>
          </p:spPr>
        </p:pic>
        <p:sp>
          <p:nvSpPr>
            <p:cNvPr id="27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7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8"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279"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80"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1CA0-3790-4920-A952-A1831D7B8AC1}"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17" name="Round Diagonal Corner Rectangle 6"/>
          <p:cNvGrpSpPr/>
          <p:nvPr/>
        </p:nvGrpSpPr>
        <p:grpSpPr>
          <a:xfrm>
            <a:off x="152280" y="133200"/>
            <a:ext cx="8832960" cy="6591600"/>
            <a:chOff x="152280" y="133200"/>
            <a:chExt cx="8832960" cy="6591600"/>
          </a:xfrm>
        </p:grpSpPr>
        <p:pic>
          <p:nvPicPr>
            <p:cNvPr id="318" name="Round Diagonal Corner Rectangle 6" descr=""/>
            <p:cNvPicPr/>
            <p:nvPr/>
          </p:nvPicPr>
          <p:blipFill>
            <a:blip r:embed="rId2"/>
            <a:stretch/>
          </p:blipFill>
          <p:spPr>
            <a:xfrm>
              <a:off x="152280" y="133200"/>
              <a:ext cx="8832960" cy="6591600"/>
            </a:xfrm>
            <a:prstGeom prst="rect">
              <a:avLst/>
            </a:prstGeom>
            <a:ln w="0">
              <a:noFill/>
            </a:ln>
          </p:spPr>
        </p:pic>
        <p:sp>
          <p:nvSpPr>
            <p:cNvPr id="31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20"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2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23"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324"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1EDC-0495-4BE9-8EA3-4B834766C6D4}"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325"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62" name="Round Diagonal Corner Rectangle 6"/>
          <p:cNvGrpSpPr/>
          <p:nvPr/>
        </p:nvGrpSpPr>
        <p:grpSpPr>
          <a:xfrm>
            <a:off x="152280" y="133200"/>
            <a:ext cx="8832960" cy="6591600"/>
            <a:chOff x="152280" y="133200"/>
            <a:chExt cx="8832960" cy="6591600"/>
          </a:xfrm>
        </p:grpSpPr>
        <p:pic>
          <p:nvPicPr>
            <p:cNvPr id="363" name="Round Diagonal Corner Rectangle 6" descr=""/>
            <p:cNvPicPr/>
            <p:nvPr/>
          </p:nvPicPr>
          <p:blipFill>
            <a:blip r:embed="rId2"/>
            <a:stretch/>
          </p:blipFill>
          <p:spPr>
            <a:xfrm>
              <a:off x="152280" y="133200"/>
              <a:ext cx="8832960" cy="6591600"/>
            </a:xfrm>
            <a:prstGeom prst="rect">
              <a:avLst/>
            </a:prstGeom>
            <a:ln w="0">
              <a:noFill/>
            </a:ln>
          </p:spPr>
        </p:pic>
        <p:sp>
          <p:nvSpPr>
            <p:cNvPr id="36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6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67"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368"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A9C8-B15F-494C-8E24-B3A6443045B1}"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369"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57200" y="378000"/>
            <a:ext cx="8577360" cy="2232000"/>
          </a:xfrm>
          <a:prstGeom prst="rect">
            <a:avLst/>
          </a:prstGeom>
          <a:ln w="0">
            <a:noFill/>
          </a:ln>
        </p:spPr>
      </p:pic>
      <p:sp>
        <p:nvSpPr>
          <p:cNvPr id="451" name="PlaceHolder 1"/>
          <p:cNvSpPr>
            <a:spLocks noGrp="1"/>
          </p:cNvSpPr>
          <p:nvPr>
            <p:ph type="subTitle"/>
          </p:nvPr>
        </p:nvSpPr>
        <p:spPr>
          <a:xfrm>
            <a:off x="2133360" y="2819520"/>
            <a:ext cx="6559560" cy="175248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0720" y="158760"/>
            <a:ext cx="8541000" cy="1249200"/>
          </a:xfrm>
          <a:prstGeom prst="rect">
            <a:avLst/>
          </a:prstGeom>
          <a:ln w="0">
            <a:noFill/>
          </a:ln>
        </p:spPr>
      </p:pic>
      <p:sp>
        <p:nvSpPr>
          <p:cNvPr id="46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l complaints should be investigated, evaluated, and responded to</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f the Front Office Manager is unable to resolve the situation, it should be passed along to a more senior manager</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escalation of an issue can and often should go all the way to the general manager</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450720" y="249120"/>
            <a:ext cx="8541000" cy="1165320"/>
          </a:xfrm>
          <a:prstGeom prst="rect">
            <a:avLst/>
          </a:prstGeom>
          <a:ln w="0">
            <a:noFill/>
          </a:ln>
        </p:spPr>
      </p:pic>
      <p:sp>
        <p:nvSpPr>
          <p:cNvPr id="453"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ervice received from employees is one part of the guest experience, and in addition, many physical aspects of the hotel must function well to ensure the guest receives the whole produc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t some point, one or both of these parts may break down</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solving a conflict to a guest’s satisfaction can “turn” around an unhappy guest and make him/her a satisfied guest</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450720" y="249120"/>
            <a:ext cx="8444160" cy="1158840"/>
          </a:xfrm>
          <a:prstGeom prst="rect">
            <a:avLst/>
          </a:prstGeom>
          <a:ln w="0">
            <a:noFill/>
          </a:ln>
        </p:spPr>
      </p:pic>
      <p:sp>
        <p:nvSpPr>
          <p:cNvPr id="45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esolution is best accomplished by adhering to the visual and verbal rules of guest servic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t is assumed that if the employee is fully trained, the following rules should be followed to meet or exceed a guest’s expectations</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Listen first</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ummarize</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ake no excuses</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Resolve the problem</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cument the conflict</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50720" y="249120"/>
            <a:ext cx="8541000" cy="1165320"/>
          </a:xfrm>
          <a:prstGeom prst="rect">
            <a:avLst/>
          </a:prstGeom>
          <a:ln w="0">
            <a:noFill/>
          </a:ln>
        </p:spPr>
      </p:pic>
      <p:sp>
        <p:nvSpPr>
          <p:cNvPr id="45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ining, experience, personality and other things contribute to an individual employee’s ability to satisfy a gues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tel management must support that effor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One way management supports an employee’s ability to satisfy a guest is by integrating empowerment in all dutie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Empowerment</a:t>
            </a:r>
            <a:r>
              <a:rPr b="0" lang="en-US" sz="2400" spc="-1" strike="noStrike">
                <a:solidFill>
                  <a:srgbClr val="ffffff"/>
                </a:solidFill>
                <a:latin typeface="Rockwell"/>
              </a:rPr>
              <a:t> is defined as the ability and authority to satisfy guest complaints/requests within preset parameters</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450720" y="249120"/>
            <a:ext cx="8541000" cy="1165320"/>
          </a:xfrm>
          <a:prstGeom prst="rect">
            <a:avLst/>
          </a:prstGeom>
          <a:ln w="0">
            <a:noFill/>
          </a:ln>
        </p:spPr>
      </p:pic>
      <p:sp>
        <p:nvSpPr>
          <p:cNvPr id="45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mployees learn to implement empowerment techniques in how they communicate and that certain phrases and words should be avoided</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re are other ways of communicating the same message (see next slide)</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566640" y="298440"/>
            <a:ext cx="8309160" cy="1238400"/>
          </a:xfrm>
          <a:prstGeom prst="rect">
            <a:avLst/>
          </a:prstGeom>
          <a:ln w="0">
            <a:noFill/>
          </a:ln>
        </p:spPr>
      </p:pic>
      <p:graphicFrame>
        <p:nvGraphicFramePr>
          <p:cNvPr id="461" name=""/>
          <p:cNvGraphicFramePr/>
          <p:nvPr/>
        </p:nvGraphicFramePr>
        <p:xfrm>
          <a:off x="566640" y="1916280"/>
          <a:ext cx="8001000" cy="4086000"/>
        </p:xfrm>
        <a:graphic>
          <a:graphicData uri="http://schemas.openxmlformats.org/drawingml/2006/table">
            <a:tbl>
              <a:tblPr/>
              <a:tblGrid>
                <a:gridCol w="4000680"/>
                <a:gridCol w="4000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Phrases to Avoid</a:t>
                      </a:r>
                      <a:endParaRPr b="0" lang="en-US" sz="20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Phrases to Use Instead</a:t>
                      </a:r>
                      <a:endParaRPr b="0" lang="en-US" sz="20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9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I don’t know.”</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at is a good question, let me find out for you.”</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 can’t do that.”</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ll, I haven’t encountered this before, let me research it and find a resolution that you are happy with.”</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You have to.” </a:t>
                      </a:r>
                      <a:r>
                        <a:rPr b="0" i="1" lang="en-US" sz="1600" spc="-1" strike="noStrike">
                          <a:solidFill>
                            <a:srgbClr val="ffffff"/>
                          </a:solidFill>
                          <a:latin typeface="Verdana"/>
                          <a:ea typeface="Arial"/>
                        </a:rPr>
                        <a:t>or </a:t>
                      </a:r>
                      <a:r>
                        <a:rPr b="0" lang="en-US" sz="1600" spc="-1" strike="noStrike">
                          <a:solidFill>
                            <a:srgbClr val="ffffff"/>
                          </a:solidFill>
                          <a:latin typeface="Verdana"/>
                          <a:ea typeface="Arial"/>
                        </a:rPr>
                        <a:t>“This is hotel policy”</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Next time, here is how you can avoid this situation.” </a:t>
                      </a:r>
                      <a:r>
                        <a:rPr b="0" i="1" lang="en-US" sz="1600" spc="-1" strike="noStrike">
                          <a:solidFill>
                            <a:srgbClr val="ffffff"/>
                          </a:solidFill>
                          <a:latin typeface="Verdana"/>
                          <a:ea typeface="Arial"/>
                        </a:rPr>
                        <a:t>or</a:t>
                      </a:r>
                      <a:r>
                        <a:rPr b="0" lang="en-US" sz="1600" spc="-1" strike="noStrike">
                          <a:solidFill>
                            <a:srgbClr val="ffffff"/>
                          </a:solidFill>
                          <a:latin typeface="Verdana"/>
                          <a:ea typeface="Arial"/>
                        </a:rPr>
                        <a:t> “I think the best way to handle this would be…”</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No.”</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 are not able to reduce your rate but I </a:t>
                      </a:r>
                      <a:r>
                        <a:rPr b="0" lang="en-US" sz="1600" spc="-1" strike="noStrike" u="sng">
                          <a:solidFill>
                            <a:srgbClr val="ffffff"/>
                          </a:solidFill>
                          <a:uFillTx/>
                          <a:latin typeface="Verdana"/>
                          <a:ea typeface="Arial"/>
                        </a:rPr>
                        <a:t>am</a:t>
                      </a:r>
                      <a:r>
                        <a:rPr b="0" lang="en-US" sz="1600" spc="-1" strike="noStrike">
                          <a:solidFill>
                            <a:srgbClr val="ffffff"/>
                          </a:solidFill>
                          <a:latin typeface="Verdana"/>
                          <a:ea typeface="Arial"/>
                        </a:rPr>
                        <a:t> able to upgrade your room”</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89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at’s not my job.”</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e person who handles that is </a:t>
                      </a:r>
                      <a:r>
                        <a:rPr b="0" lang="en-US" sz="1600" spc="-1" strike="noStrike" u="sng">
                          <a:solidFill>
                            <a:srgbClr val="ffffff"/>
                          </a:solidFill>
                          <a:uFillTx/>
                          <a:latin typeface="Verdana"/>
                          <a:ea typeface="Arial"/>
                        </a:rPr>
                        <a:t>(name).</a:t>
                      </a:r>
                      <a:r>
                        <a:rPr b="0" lang="en-US" sz="1600" spc="-1" strike="noStrike">
                          <a:solidFill>
                            <a:srgbClr val="ffffff"/>
                          </a:solidFill>
                          <a:latin typeface="Verdana"/>
                          <a:ea typeface="Arial"/>
                        </a:rPr>
                        <a:t> Please let me get him/her.”</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0720" y="249120"/>
            <a:ext cx="8541000" cy="1165320"/>
          </a:xfrm>
          <a:prstGeom prst="rect">
            <a:avLst/>
          </a:prstGeom>
          <a:ln w="0">
            <a:noFill/>
          </a:ln>
        </p:spPr>
      </p:pic>
      <p:sp>
        <p:nvSpPr>
          <p:cNvPr id="463"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diversity of guests makes it vital that all hotel employees appreciate the differences in peopl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ost reputable hotels will put their employees through </a:t>
            </a:r>
            <a:r>
              <a:rPr b="1" lang="en-US" sz="2400" spc="-1" strike="noStrike">
                <a:solidFill>
                  <a:srgbClr val="ffffff"/>
                </a:solidFill>
                <a:latin typeface="Rockwell"/>
              </a:rPr>
              <a:t>diversity training, </a:t>
            </a:r>
            <a:r>
              <a:rPr b="0" lang="en-US" sz="2400" spc="-1" strike="noStrike">
                <a:solidFill>
                  <a:srgbClr val="ffffff"/>
                </a:solidFill>
                <a:latin typeface="Rockwell"/>
              </a:rPr>
              <a:t>which teaches employees that they mast understand and appreciate the differences in peopl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elping the employees overcome stereotypes such as racism, sexism, ethnocentrism and others helps to create a comfortable environment</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450720" y="249120"/>
            <a:ext cx="8541000" cy="1165320"/>
          </a:xfrm>
          <a:prstGeom prst="rect">
            <a:avLst/>
          </a:prstGeom>
          <a:ln w="0">
            <a:noFill/>
          </a:ln>
        </p:spPr>
      </p:pic>
      <p:sp>
        <p:nvSpPr>
          <p:cNvPr id="46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hotel by nature is a “home away from home” to international guests</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Using good customer service skills helps to put these visitors at ease</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tels should share a list of all multilingual staff with front office managers</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ere appropriate, extra collateral should be provided in the guest’s native tongue</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erbal communication will be difficult and nonverbal communication can be difficult due to cultural differences</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450720" y="249120"/>
            <a:ext cx="8444160" cy="1158840"/>
          </a:xfrm>
          <a:prstGeom prst="rect">
            <a:avLst/>
          </a:prstGeom>
          <a:ln w="0">
            <a:noFill/>
          </a:ln>
        </p:spPr>
      </p:pic>
      <p:sp>
        <p:nvSpPr>
          <p:cNvPr id="46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anagers should become involved in guest complaints only after an empowered desk agents attempted to resolve the issue firs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manager who involves themselves before the guest agent has a chance to resolve an issue defeats the purpose behind empowermen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ome guests may simply prefer to address to a manager</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anagers must lead by example by showing that complaints are not a burden, but an opportunity to improve service</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2:48:31Z</dcterms:created>
  <dc:creator>robert</dc:creator>
  <dc:description/>
  <dc:language>en-US</dc:language>
  <cp:lastModifiedBy>robert</cp:lastModifiedBy>
  <dcterms:modified xsi:type="dcterms:W3CDTF">2011-04-12T03:00:52Z</dcterms:modified>
  <cp:revision>2</cp:revision>
  <dc:subject/>
  <dc:title>GUEST CONFLICT RESOLUTION</dc:title>
</cp:coreProperties>
</file>